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5A1D-F1E3-4080-8FCD-D626460F3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CFEC-7B2B-4859-B161-66E410744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C12B-5E86-4F9B-875E-635487A71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8EEA-5E7A-4D30-82C3-80FFD5229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353B-4CD9-4FF8-AB83-3264F90B6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9B05-8EEB-4B88-A2B1-0F1330A8E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B819-B2C8-47C6-8E88-950EA5332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AD04-C205-49A6-885F-564D70B18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7B6B-E7A9-4092-AF58-908DEECD2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B0BC-80DA-486F-B2B8-636666CE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4332-1941-4866-82D8-7BA453A3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2444-FF71-4CCC-B03C-92363EA6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2B3BF-A38F-41F0-A3A6-D026CD4C0A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27640" y="1484280"/>
            <a:ext cx="30513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zero and negative inte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602320" y="2529000"/>
            <a:ext cx="354168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fractions and decimals which can be represented by f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472000" y="4329000"/>
            <a:ext cx="3402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dd irrational numbers such as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292720" y="5516640"/>
            <a:ext cx="3564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imaginary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4976640"/>
            <a:ext cx="2879640" cy="4597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Numbers (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2587680"/>
            <a:ext cx="4176720" cy="8254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gers (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 … -3, -2, -1, 0,1, 2, 3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6000" y="3753000"/>
            <a:ext cx="4897440" cy="936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ational Numbers (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.g. 17, -10, 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½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, -0.65, 0.333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8920" y="1376280"/>
            <a:ext cx="3132000" cy="8254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tural Numbers (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1, 2, 3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31640" y="5877000"/>
            <a:ext cx="3349800" cy="496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x Numbers (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006560" y="297000"/>
            <a:ext cx="7129440" cy="7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The Number System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873520" y="1441440"/>
          <a:ext cx="403200" cy="43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3520" y="1441440"/>
                    <a:ext cx="403200" cy="4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755720" y="2637000"/>
          <a:ext cx="403200" cy="40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5720" y="2637000"/>
                    <a:ext cx="40320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2870280" y="3824280"/>
          <a:ext cx="441360" cy="47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70280" y="3824280"/>
                    <a:ext cx="44136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2511360" y="5006880"/>
          <a:ext cx="439920" cy="401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11360" y="5006880"/>
                    <a:ext cx="43992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3089160" y="5950080"/>
          <a:ext cx="403200" cy="403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89160" y="5950080"/>
                    <a:ext cx="40320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3595680" y="1665360"/>
            <a:ext cx="1697040" cy="269640"/>
          </a:xfrm>
          <a:prstGeom prst="rightArrow">
            <a:avLst>
              <a:gd name="adj1" fmla="val 50000"/>
              <a:gd name="adj2" fmla="val 157343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9411600">
            <a:off x="3755520" y="2276280"/>
            <a:ext cx="1630440" cy="269640"/>
          </a:xfrm>
          <a:prstGeom prst="rightArrow">
            <a:avLst>
              <a:gd name="adj1" fmla="val 50000"/>
              <a:gd name="adj2" fmla="val 151168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2673360"/>
            <a:ext cx="1265400" cy="270000"/>
          </a:xfrm>
          <a:prstGeom prst="rightArrow">
            <a:avLst>
              <a:gd name="adj1" fmla="val 50000"/>
              <a:gd name="adj2" fmla="val 117167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9411600">
            <a:off x="3958560" y="3429000"/>
            <a:ext cx="1630440" cy="270000"/>
          </a:xfrm>
          <a:prstGeom prst="rightArrow">
            <a:avLst>
              <a:gd name="adj1" fmla="val 50000"/>
              <a:gd name="adj2" fmla="val 150967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774600">
            <a:off x="4565160" y="4057560"/>
            <a:ext cx="1405080" cy="270000"/>
          </a:xfrm>
          <a:prstGeom prst="rightArrow">
            <a:avLst>
              <a:gd name="adj1" fmla="val 50000"/>
              <a:gd name="adj2" fmla="val 130100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10064400">
            <a:off x="3239640" y="4797360"/>
            <a:ext cx="2278080" cy="270000"/>
          </a:xfrm>
          <a:prstGeom prst="rightArrow">
            <a:avLst>
              <a:gd name="adj1" fmla="val 50000"/>
              <a:gd name="adj2" fmla="val 210933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734400">
            <a:off x="3276720" y="5408280"/>
            <a:ext cx="2124000" cy="270000"/>
          </a:xfrm>
          <a:prstGeom prst="rightArrow">
            <a:avLst>
              <a:gd name="adj1" fmla="val 50000"/>
              <a:gd name="adj2" fmla="val 196667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0064400">
            <a:off x="3712320" y="5913000"/>
            <a:ext cx="1716120" cy="270000"/>
          </a:xfrm>
          <a:prstGeom prst="rightArrow">
            <a:avLst>
              <a:gd name="adj1" fmla="val 50000"/>
              <a:gd name="adj2" fmla="val 158900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4T21:31:11Z</dcterms:created>
  <dc:creator>Trifon</dc:creator>
  <dc:description/>
  <dc:language>en-US</dc:language>
  <cp:lastModifiedBy>Trifon</cp:lastModifiedBy>
  <dcterms:modified xsi:type="dcterms:W3CDTF">2003-11-14T21:51:00Z</dcterms:modified>
  <cp:revision>2</cp:revision>
  <dc:subject/>
  <dc:title>Slide 1</dc:title>
</cp:coreProperties>
</file>